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682-8481-4B05-A3B2-E00BF253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4B0-9C35-4B1A-96BB-399A3DDC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C27-BAF2-4BFD-A4C5-9FF0A10E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3FA-9896-48A9-BF95-38428C1A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7C8E-2880-4B5C-8F1D-2850C630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B66A-8380-4CFC-9E0C-5C43D115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6957-3144-4C50-9E31-21382B92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C9EC-6807-4275-B913-28647F69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DC34-4062-4FC7-B700-6176EC6E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006D-3305-4F48-BE00-FD0B921C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C949-55E7-41F6-AA95-843CD8B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BBF-760B-4C60-8EF9-8FFE72BE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DED2-AA0A-43B7-A49E-33AB0BCB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6243-FFE5-4892-9BFA-04DB4E65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3D3D-A906-45DC-A871-6AE1E77D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018D-D416-4D45-A6ED-C032DBEB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15B5-973F-4436-B914-9EED01D7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287-8926-48FB-8DD0-01652F8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734-DE2E-437B-80C4-17DE1657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8C6-A321-4229-92B9-AD8B94E4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07C-53E1-4379-B1AB-E015957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4E1-1FD1-48C9-A637-C11F86EE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68B-3AC7-4E26-A5FF-C1A6A51C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026-3D52-4F06-8D83-ADDE2878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763E-7A6B-41D1-A360-74DC2C1CFA0E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4DB9-135B-4A06-B759-CE85A8D2627C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.bbc.co.uk/2/hi/south_asia/7570286.stm" TargetMode="External"/><Relationship Id="rId2" Type="http://schemas.openxmlformats.org/officeDocument/2006/relationships/hyperlink" Target="http://news.bbc.co.uk/2/hi/south_asia/7570286.stm" TargetMode="External"/><Relationship Id="rId3" Type="http://schemas.openxmlformats.org/officeDocument/2006/relationships/hyperlink" Target="http://news.bbc.co.uk/2/hi/south_asia/7570286.stm" TargetMode="External"/><Relationship Id="rId4" Type="http://schemas.openxmlformats.org/officeDocument/2006/relationships/hyperlink" Target="http://news.bbc.co.uk/2/hi/south_asia/7570286.stm" TargetMode="External"/><Relationship Id="rId5" Type="http://schemas.openxmlformats.org/officeDocument/2006/relationships/hyperlink" Target="http://news.bbc.co.uk/2/hi/in_depth/americas/2008/vote_usa_2008/7595111.stm" TargetMode="External"/><Relationship Id="rId6" Type="http://schemas.openxmlformats.org/officeDocument/2006/relationships/hyperlink" Target="http://pressherald.mainetoday.com/story.php?id=207273&amp;ac=PHnws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Charcoal CY"/>
              </a:rPr>
              <a:t>Current Events</a:t>
            </a:r>
            <a:br>
              <a:rPr sz="4800"/>
            </a:br>
            <a:br>
              <a:rPr sz="1200"/>
            </a:br>
            <a:r>
              <a:rPr b="0" lang="en-US" sz="3200" spc="-1" strike="noStrike">
                <a:solidFill>
                  <a:srgbClr val="003300"/>
                </a:solidFill>
                <a:latin typeface="Charcoal CY"/>
              </a:rPr>
              <a:t>August 31, 2008</a:t>
            </a:r>
            <a:br>
              <a:rPr sz="3200"/>
            </a:br>
            <a:br>
              <a:rPr sz="700"/>
            </a:br>
            <a:r>
              <a:rPr b="0" lang="en-US" sz="3600" spc="-1" strike="noStrike">
                <a:solidFill>
                  <a:srgbClr val="003300"/>
                </a:solidFill>
                <a:latin typeface="Charcoal CY"/>
              </a:rPr>
              <a:t>Mrs. Ruthman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Big Caslon"/>
              </a:rPr>
              <a:t>Musharraf Resigns as Pakistani Preside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Stepped down August 18th, 9 years in power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Threatened with impeachmen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</a:rPr>
              <a:t>Controversy over judges Musharraf fired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</a:rPr>
              <a:t>Question now of whether they’ll be reinstated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Parliament must elect new President within 30 day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May face prosecution for abuse of power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May have to leave Pakistan for security reason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267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510552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4419720"/>
            <a:ext cx="3886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http://www.cnn.com/2008/WORLD/asiapcf/08/18/musharraf.address/ </a:t>
            </a: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05520" y="152388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800600" y="5105520"/>
            <a:ext cx="403848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Slide 1 should focus on the events -- what happen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7240"/>
            <a:ext cx="289584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International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Big Caslon"/>
              </a:rPr>
              <a:t>Significance of Musharraf’s Resignation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3400" y="1243080"/>
            <a:ext cx="4618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U.S. &amp; British played significant role in negotiations over Musharraf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</a:rPr>
              <a:t>Pakistan key ally in war on terror because Osama bin Laden believed to be in hiding t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</a:rPr>
              <a:t>Militant groups grew in number and power under Musharraf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Question of how much power next president will ha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Army will likely have far less impact on politics now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Next government will face opposition from militant group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8098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365760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http://goatmilk.files.wordpress.com/2008/03/pk-fire-2.jpg </a:t>
            </a:r>
            <a:endParaRPr b="0" lang="en-US" sz="9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181480" y="1371600"/>
            <a:ext cx="3200400" cy="217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4800" y="5105520"/>
            <a:ext cx="434340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Slide 2 should focus on why the story is significa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57240"/>
            <a:ext cx="28954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International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00"/>
                </a:solidFill>
                <a:latin typeface="Big Caslon"/>
              </a:rPr>
              <a:t>Democratic Convention</a:t>
            </a:r>
            <a:endParaRPr b="0" lang="en-US" sz="3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Late August, Denv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Notable speakers: Michelle Obama, Ted Kennedy, Hillary Clinton, Bill Clinton, Joe Bide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Culmination: Obama’s speech to audience of 84,00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657600"/>
            <a:ext cx="5029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http://pressherald.mainetoday.com/photo_biginizer.html?pid=1683727&amp;pd=080828</a:t>
            </a:r>
            <a:endParaRPr b="0" lang="en-US" sz="9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066680" y="1295280"/>
            <a:ext cx="4496040" cy="2522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57240"/>
            <a:ext cx="28954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National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1600200"/>
            <a:ext cx="2209680" cy="155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Slide 1 should focus on the events -- what happen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Big Caslon"/>
              </a:rPr>
              <a:t>Significance of Democratic Convention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Focus on building party unity after Obama/Clinton primary ra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Effort to get party to be aggressive against McCai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Encourage voters to seek leadership change in Washingt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38098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57200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http://www.time.com/time/nation/article/0,8599,1837485,00.html </a:t>
            </a:r>
            <a:endParaRPr b="0" lang="en-US" sz="9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4813200" cy="313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971800" y="57240"/>
            <a:ext cx="28954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National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5105520"/>
            <a:ext cx="441972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Slide 2 should focus on why the story is significa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350040" cy="4546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4520" y="6248520"/>
            <a:ext cx="314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http://cartoonbox.slate.com/hottopic/?image=8&amp;topicid=17</a:t>
            </a:r>
            <a:endParaRPr b="0" lang="en-US" sz="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819000"/>
            <a:ext cx="79246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Include a big picture so everyone can read your carto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6121440"/>
            <a:ext cx="5105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1d44"/>
                </a:solidFill>
                <a:latin typeface="Arial"/>
              </a:rPr>
              <a:t>Make sure to include a source citation for all images -- including pictures in your news storie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4051440"/>
            <a:ext cx="822960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Big Caslon"/>
              </a:rPr>
              <a:t>Viewpoint:</a:t>
            </a: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114480">
              <a:lnSpc>
                <a:spcPct val="80000"/>
              </a:lnSpc>
              <a:spcBef>
                <a:spcPts val="1250"/>
              </a:spcBef>
              <a:buClr>
                <a:srgbClr val="0033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Big Caslon"/>
                <a:ea typeface="ＭＳ Ｐゴシック"/>
              </a:rPr>
              <a:t>The downturn in the economy is especially hard on the elderly, many of whom are retired and live on a fixed incom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114480">
              <a:lnSpc>
                <a:spcPct val="90000"/>
              </a:lnSpc>
              <a:spcBef>
                <a:spcPts val="1250"/>
              </a:spcBef>
              <a:buClr>
                <a:srgbClr val="0033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Big Caslon"/>
                <a:ea typeface="ＭＳ Ｐゴシック"/>
              </a:rPr>
              <a:t>Some elderly people have to come out of retirement in order to earn income for rising food/fuel prices and other bill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114560"/>
            <a:ext cx="4191120" cy="3000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02960" y="762120"/>
            <a:ext cx="342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http://cartoonbox.slate.com/hottopic/?image=8&amp;topicid=17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1447920"/>
            <a:ext cx="350532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Big Caslon"/>
              </a:rPr>
              <a:t>Cartoon Analysi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Big Caslon"/>
              </a:rPr>
              <a:t>   </a:t>
            </a:r>
            <a:r>
              <a:rPr b="1" lang="en-US" sz="2000" spc="-1" strike="noStrike">
                <a:solidFill>
                  <a:srgbClr val="003300"/>
                </a:solidFill>
                <a:latin typeface="Big Caslon"/>
              </a:rPr>
              <a:t>Juxtaposition</a:t>
            </a: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: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  <a:ea typeface="ＭＳ Ｐゴシック"/>
              </a:rPr>
              <a:t>Brett Favre, a quarterback who recently came out of a brief retirement and earns millions of dollars, is being compared to an elderly poor couple who is retired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787320"/>
            <a:ext cx="34290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1d44"/>
                </a:solidFill>
                <a:latin typeface="Arial"/>
              </a:rPr>
              <a:t>Include a smaller version of the cartoon on this analysis pag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5562720"/>
            <a:ext cx="3429000" cy="916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1d44"/>
                </a:solidFill>
                <a:latin typeface="Arial"/>
              </a:rPr>
              <a:t>Be sure to discuss one cartoon element as well as the overall viewpoint of the cartoo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rcoal CY"/>
              </a:rPr>
              <a:t>News Sourc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1800" y="2050920"/>
            <a:ext cx="76327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s Story 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urce 1: 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Arial"/>
                <a:hlinkClick r:id="rId1"/>
              </a:rPr>
              <a:t>http://news.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bbc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Arial"/>
                <a:hlinkClick r:id="rId3"/>
              </a:rPr>
              <a:t>.co.uk/2/hi/south_asia/7570286.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Arial"/>
                <a:hlinkClick r:id="rId4"/>
              </a:rPr>
              <a:t>st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urce 2:</a:t>
            </a: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http://www.cnn.com/2008/WORLD/asiapcf/08/18/musharraf.address/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s Story 2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urce 1: </a:t>
            </a:r>
            <a:r>
              <a:rPr b="0" lang="en-US" sz="1400" spc="-1" strike="noStrike" u="sng">
                <a:solidFill>
                  <a:srgbClr val="70aabf"/>
                </a:solidFill>
                <a:uFillTx/>
                <a:latin typeface="Arial"/>
                <a:hlinkClick r:id="rId5"/>
              </a:rPr>
              <a:t>http://news.bbc.co.uk/2/hi/in_depth/americas/2008/vote_usa_2008/7595111.st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urce 2:</a:t>
            </a: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 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Big Caslon"/>
                <a:hlinkClick r:id="rId6"/>
              </a:rPr>
              <a:t>http://pressherald.mainetoday.com/story.php?id=207273&amp;ac=PHnws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5105520"/>
            <a:ext cx="7620120" cy="580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1d44"/>
                </a:solidFill>
                <a:latin typeface="Arial"/>
              </a:rPr>
              <a:t>You should read, analyze and include 2 news sources for each of your stories. Be sure to include source citations for </a:t>
            </a:r>
            <a:r>
              <a:rPr b="1" lang="en-US" sz="1600" spc="-1" strike="noStrike">
                <a:solidFill>
                  <a:srgbClr val="b21d44"/>
                </a:solidFill>
                <a:latin typeface="Arial"/>
              </a:rPr>
              <a:t>images</a:t>
            </a:r>
            <a:r>
              <a:rPr b="0" lang="en-US" sz="1600" spc="-1" strike="noStrike">
                <a:solidFill>
                  <a:srgbClr val="b21d44"/>
                </a:solidFill>
                <a:latin typeface="Arial"/>
              </a:rPr>
              <a:t> next to the picture or image used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2:55:41Z</dcterms:created>
  <dc:creator>Yarmouth Schools</dc:creator>
  <dc:description/>
  <cp:keywords/>
  <dc:language>en-US</dc:language>
  <cp:lastModifiedBy>YHS Teacher</cp:lastModifiedBy>
  <cp:lastPrinted>2006-10-16T13:23:29Z</cp:lastPrinted>
  <dcterms:modified xsi:type="dcterms:W3CDTF">2008-09-03T14:09:29Z</dcterms:modified>
  <cp:revision>103</cp:revision>
  <dc:subject/>
  <dc:title>PowerPoint Presentation  -  Current Events October 2006</dc:title>
</cp:coreProperties>
</file>